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313-B531-41E0-8571-FDC7F35C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0FA-A573-40B8-AF41-0374B2F4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9C5-5EC7-4A34-ACEB-A322F343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E35-606A-40D1-9D1F-C754ECEF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3B25-DEBC-4A47-812D-5CC20161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3E8A-BDD7-4ED8-81EC-407D501A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4F85-462E-49BC-83CC-B37BBB84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23DC-91AF-4F33-8831-ECAEC6E7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E541-C029-4D03-BC90-29745A8D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421B-6321-457D-9E8E-A04B75BA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8C48-B244-4E87-AA5E-FF30BABF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C48-8845-45CA-BBF8-7E42D8F3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A674-15B0-49D1-9D16-A1B5DDB3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C98B-011A-4F5A-9775-B02E4419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65D3-314B-4119-B985-1B247D6D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5279-5723-48EB-B223-A4A1C235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ADAE-A55A-4FCC-9318-1A6676DC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68B-A5E5-41CE-AE46-6709750E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AE2-8990-4472-8E40-7D8E110A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11E-95D2-4F7D-A9ED-FD126E64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D97B-6C97-462F-9FEE-6B97926C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8B6-2A1D-4343-963F-1BD72F21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3C3-BB42-44CA-A225-0977DB5F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A8D-D899-4A16-B8DB-9DE64063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10A2-505B-4AB2-BC99-D8256A07366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76F4-FE52-4902-9728-7BA6F236A00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Times New Roman"/>
                <a:cs typeface="????Boutros Rokaa"/>
              </a:rPr>
              <a:t>طلبة مار الياس</a:t>
            </a:r>
            <a:endParaRPr b="1" lang="en-US" sz="15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نارٌ وإِلى اللهِ سافَرْتَ بنَار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عْدَ حَبْسِ الغَيثِ قَدْ باتَتِ الأرضُ قِفار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جَفَّ أُرْدُنُّكَ لَمْ يُبْقِ للظَّامِي قِطارْ.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دَلَّكَ الروحُ إلى أَيِّمٍ ذاتِ افتِقَار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لَّلَتْ جَرَّتُها بكَ مَوتُ الجُوعِ مات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على قارُورَةِ الزَّيتِ فَاضَتْ بَرَكَات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زِحْتَ عَنها غَمَّها عُدْتَ للطِّفْلِ الحَياة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طَّمَتْ إِيزابَلٌ أنبيَا الحَقِّ الهُداة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طَرَحَتْ بادِعَها رَفَعَتْ شأْنَ بَعَال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دُ إيليّا عَلَتْ هَدَمَتْ بُرْجَ الضَّلال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َرَمُ الرَّبِّ على الكَرمَلِ انصَبَّ وَسَالَ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إِيليّا أضْمَرَتْ شَرَّ مَوتٍ إيزَابَال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ِنْ لَظَى إيزَابَلٍ كانَ حُورِيبُ المَتَاه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َفْخُ عَصْفٍ فيهِ لَمْ يَكُنِ الربُّ الإِله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ُخْطُ زِلْزَالٍ بهِ لَمْ يَكُ الربُّ الإله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َزْفُ نِيرانٍ بها لَمْ يَكُ الربُّ الإِله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َنَسِيمٌ كالنَّدَى فيهِ لُطْفُ اللهِ ذاب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َوتُ حَقٍّ مُرْجِفٌ غَاصِبَ الحَقِّ أَحاب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ئِمُ الظُلْمِ هَوَى بَينَ أنيَاب الكِلاب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فَّةَ الرُّوحِ على النارِ لاقَتْكَ السماء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شاءَ لِيشَاعُ اكْتَسَى رُوحَ غَيبٍ "بالرِّدَاءْ"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َسأَلُ الربَّ لنا رُوحَ حُبٍّ وعَطَاء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5T11:55:33Z</dcterms:created>
  <dc:creator>Charbel Azar</dc:creator>
  <dc:description/>
  <dc:language>en-US</dc:language>
  <cp:lastModifiedBy>-</cp:lastModifiedBy>
  <dcterms:modified xsi:type="dcterms:W3CDTF">2002-12-22T16:02:41Z</dcterms:modified>
  <cp:revision>9</cp:revision>
  <dc:subject/>
  <dc:title>لأن إلى الأبد رحمته هللوا للر بّ  اعترفوا للربّ فإنّهُ صالحٌ. اعترفوا لإله الالهة وربّ الأرباب لصانع المعجزات العظام وحده والسماوات.</dc:title>
</cp:coreProperties>
</file>